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9BA-1BA5-4271-9E4B-DDEB6FA0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793-E248-4454-AC92-0528924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E12-4533-4E19-9130-D2946266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FEE-D2DF-428E-A421-0247FFE5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379A-299B-4994-B8B6-13DD4865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872C-3083-4192-8880-3A63F3F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7C99-1564-4EFF-ACE1-DA97FD02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CF9-59C5-4135-9632-8C060C89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BFF3-27F2-440B-AD39-67B6B2A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AFB-4A70-4126-A9B7-456D696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5831-361D-4CCA-9719-C662A4F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0C2-8D9A-4806-93DB-40DE337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621F-E892-49D5-91BC-8EE1EAD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3A14-6ED5-47A4-9593-CC3AD26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BD55-23C7-43E8-967C-86C857F9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D5DB-D895-4631-B835-B96E6791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6494-129C-4B5A-B35B-CC1A1F8A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F4A-C7D9-4572-900C-0400F0E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4DC-F3E5-4CAC-AB7E-A5B13AEB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3DC-A976-4D55-B266-93C6C80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59F-E81D-4AF6-8506-312FF4CB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E24-31DB-49E2-A146-2F92AAA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DB2-36DE-4B1C-A515-EA60A7C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6A7-B897-40EC-8562-91B7050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830B-4ED4-464F-AF59-B752638FD0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3E1-ACD1-4C0D-9095-AD9451602B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arison Between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-threshold and Adiabatic Power Saving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nathan Bolus an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uart Woot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iabatic Adder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1080" y="2499840"/>
            <a:ext cx="66373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300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6 u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iabatic is not as affective at small values of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ower than 2V).  This is evident in the 90nm technology w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-threshold saved 26x the power compared to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 0.5V, 400MHz, V/sub 00/-hopping processor with zero-V/sub TH/ FD-SOI technolog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Kawaguchi, H.; Kanda, K.; Nose, K.; Hattori, S.; Dwi, D.; Antono, D.; Yamada, D.; Miyazaki, T.; Inagaki, K.; Hiramoto, T.; Sakurai, T.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lid-State Circuits Conference, 2003. Digest of Technical Papers. ISSCC. 2003 IEEE Internatio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3 Page(s):106 - 481 vol.1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igital Object Identifier 10.1109/ISSCC.2003.1234227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 Efficient Charge Recovery Logic Circui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Yong Moon, and Deog-Kyoon Jeong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E Journal of Solid-State Circuits, Vol, 31, No.4, April 199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ry Look Ahead Ad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92280" y="2362320"/>
            <a:ext cx="4384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mparison of different V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Arial"/>
              </a:rPr>
              <a:t>D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431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wer Consumption Comparison with VDD=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7120" y="2362320"/>
            <a:ext cx="5773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-threshold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7.18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143.6 n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440" y="791640"/>
            <a:ext cx="7483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4305600" cy="40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1680" y="106668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fficient Charge Recovery 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2860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ssentially Differential Cascode Voltage Switch Logic (DCVS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DD replaced by power clock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2819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440" y="944280"/>
            <a:ext cx="748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ck Ti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166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 Inver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nsum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9250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2:19:14Z</dcterms:created>
  <dc:creator>Stuart Wooters</dc:creator>
  <dc:description/>
  <dc:language>en-US</dc:language>
  <cp:lastModifiedBy>Stuart Wooters</cp:lastModifiedBy>
  <dcterms:modified xsi:type="dcterms:W3CDTF">2006-11-30T18:11:09Z</dcterms:modified>
  <cp:revision>5</cp:revision>
  <dc:subject/>
  <dc:title>Slide 1</dc:title>
</cp:coreProperties>
</file>